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FD5-A744-48EC-AE1D-1E9BB110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BAC-2FDF-490F-9C91-3CE44CDC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16C78-49E9-4D57-8258-1BFB6DE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CF97B-CED2-47F2-A5FF-87CA4EC5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72A98-7776-4938-81B5-8A517977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11571-059C-4389-BC14-83EB4B8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CBA48-6776-44DD-A491-592EC46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B5D92-A80B-4834-A932-B27A75F9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F9B6A-7C0B-4B5E-A260-EE0F979C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D97FD-E1C6-4284-9C49-1FB48E35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9DD36-3376-4ABC-9CFD-3D601996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96410-27F8-465E-B3C6-894FBF87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986-5E17-4A14-A805-19A64748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15F47-9FC1-4FE1-BB66-D4578938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B120F-C49E-42B5-87B8-F0D91FDF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BC260-3096-4987-957A-E927071D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0FFB7-B36D-465F-A1E5-E04A011A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3E16D-5B14-43A6-9E2B-E2A59726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86919-6BAC-4A1B-93B2-532D69AE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C96F0-DB72-47E3-B729-197E84D0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82F67-80C2-4161-AC83-76E70266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60AE4-9777-4667-8FA4-72AC4EED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7A4D3-64EB-4247-9ED2-94A9A1BC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9FA-40DF-473B-AD03-C1F6CCDA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0EFCE-DA42-451C-9F27-7452150A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FF27E1-4284-412B-A8B4-B48F0436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E285DA-0BA0-4550-AFB7-796D5EF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375070-91FF-42D3-9683-EB278767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12460D-276B-4A18-BCA4-ABB3F368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D499C0-786A-4D5B-B0FF-877F90B5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840400-7681-4857-93DC-15AE8427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7B1921-C51B-4202-B92E-CB5FFEB6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E62D73-4828-4E10-AD74-6C3FA739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E16C24-26AA-495C-88FC-656A79E4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DF541-037A-470C-8763-FC3465D3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E99BF9-D23F-4909-B7D1-71BAF820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69213A-DB2C-4A9C-8B22-FA4BD105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1D0E68-8E2B-4678-AA3F-AFED0BFD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7627F-C514-4EE9-8B79-EFC841F9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EC46A-937E-4843-9A5E-8A13B7A7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29B2C-1E2B-42B6-8EF3-5663B52C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5AF16-AF1F-4F46-BCDC-22DF606F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DA0AB-229F-4406-B88F-56909C66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89F15-5D49-48B8-B683-E3F7DF27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AAED0-2074-4CDA-B665-082D580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50700-9363-42E4-B56A-990CF3FA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0AC2E-51D4-439F-9A9B-A51A8AE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B3EBE-CEB3-4123-B76A-004E4D8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CE652-9F81-4A97-8B53-11E1E757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07360-1E02-47FE-BD32-E3B5A028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CEA12-AB27-47C5-94E6-8536D319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AE585-3772-4BB0-B534-89127C22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AC138-EFDD-44AC-B8B5-981EF1C6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05AC5-091F-47DB-9A88-9F6F2804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A14AA-BFE0-4753-BE7F-BA41C9E5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E7534-5D2A-4F46-AF49-5F983EF4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A00-A61F-484A-866B-5CBE367E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0166C-7322-4F10-8D3E-E537E04A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40CC2-473F-4D4A-8564-9A1F40CF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47A88-8192-4838-87E9-69390312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39A47-86A2-4CB2-9A8D-691742BC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8E018-898F-4E2C-A71D-942C9489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A9BB3-9B1C-4100-BDE8-84D34502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48D4F-77A3-4A80-915D-B10E0A9A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D9890-808E-4479-AF0B-D230437C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C2E3A-12E7-45E5-A1CA-BD1F1A5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7884E-87EA-4963-9A10-18F80F27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0D7-156C-4B0B-ADB9-DEAE4829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A0832-7330-47E4-AF1A-8731B973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88089-BAD0-43E8-84CB-7EC0DD0D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1BB18-FC43-43F7-A5A3-ADD99EC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FB026-6091-4DD1-B6B8-0BCCC99A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6AF8D-0C99-436B-8522-C5E7B96B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6B745-3B85-4F91-884F-6343F537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F0694-4045-4F42-87A1-447232B9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7647-FB5F-4BD4-BBB7-B20A1A9B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5B9BF-6F41-4D2F-A2C7-2ACA2774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7DAB-1D96-42FD-ADDA-11F0BC31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030-88D3-4DF2-AC89-65C86CB5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7D16-81F6-4B8C-A6D3-CAD6F61C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05D7B-E7BF-48E3-971C-D58ACB03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2051-B3D1-4614-97FA-20CC707D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71FD-84EA-46EF-B4E0-A682C1C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7A35-695A-4CC5-9D67-4CE3374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AEDC-873B-47F6-9658-1E158A2A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7F60-28B5-45D3-B5E4-9514F3C7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406F-6025-4022-9F6D-E681AAD1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1C3A-C8BE-406C-9463-132EC070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ADD30-6FD7-44FE-9664-FA28344C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B99-D811-4957-8DED-41D003FA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2250-D958-4B5E-BE04-C9284048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65272-5E3E-4791-BEEC-B59F8BEB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E33CC-4698-49F8-B7EE-AA798814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4AEDB-10C9-4771-862F-2B1FB2E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FCEA9-B973-45F8-992B-9CFE1FA1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59FE-D55C-44A5-BFAF-A839D2D0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D89D9-FB63-493C-8BFC-8959A1C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6432A-54B8-4295-BC83-976FECAA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12703-F240-447B-A3E1-C9892E9F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BABA-2F26-45C7-A895-38E91A64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1EA-EB8B-47F1-B34F-D0C86D52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02C56-F68D-4456-B439-B198A55E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E458D-2259-47FC-BFD8-72286C18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C745-50E7-44D0-ABEC-4697C6E8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5283-05DD-4FB4-A033-3DD9FFB5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179CD-9DC0-4F69-951F-8F2FAA1C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A522-C45C-4335-A629-414EBA85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FD99-2FC2-434B-BB25-6CE0B285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5F78F-364D-4C1F-9DA2-8C0848D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1D882-738C-4115-B90C-C0F4482B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85E30-EA12-4F95-8CB5-D585373C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A44-4C8D-4567-87E5-38E14C35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37017-13CA-4BF4-A08F-931B75DE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00F5-3C85-4BE0-96AB-97963BF0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9DFF-23E6-4DC9-8513-F148928E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3C096-35E9-41D1-ABB9-6E51A9E7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B962A-8E95-4F39-BE2E-57E18723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7BA9-7581-4783-AF3B-40E8B324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2E7B-FFB7-4BD0-AD6E-D4D9B7C6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F6F9B-C801-4465-BCE0-4F254CFE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36DDE-1F9B-4DE2-80DC-09C33393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A62DC-6E03-4EE4-938F-B3999388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486-EEA0-4A9D-A24E-56CD208A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E84CE-0D0E-43E0-9E7B-67E568B1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2FB33-9BF3-41A4-A41A-B88AACF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25A4-A125-45AA-82D7-B55A8F45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1EDF4-B4A1-492F-905D-E1746732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3A06-8331-4FCE-B64B-C89E178C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A4C2F-4563-4D5C-8336-2ED25F68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2E760-0997-4EF7-B053-622469A4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91920-DDD3-4127-B638-BE7902C6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120A-4E4F-4B00-B762-8ADA097A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5E167-5431-4858-B555-D0CD23ED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027-A8FB-4716-8C79-D6B5C81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0F80-9B33-4B12-A641-EFB0ADC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0E37E-E671-4DF8-B8D7-5A8D94D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68947-E79E-48A5-8934-962935FD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5EB34-F8A2-4D03-B8E3-5C0368EA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E9332-9901-4ADE-9507-1E56D65C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6ADB0-B338-4F2B-9C3F-EDC72845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C563-C3EB-4C45-AD02-75AFCD50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43FE-328A-41EF-ACE7-1A5C0C15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1C9FC-6A98-4670-AA34-717CCE84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4F2C0-0588-4707-99CB-97B6021F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73B0-8BC2-46CA-9D68-1549EF94B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8617-6B58-42AA-976A-1E99852C5A2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7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97CB-1B68-4693-A5AA-DF8C2D6852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7BAE-2AE7-4C5F-B1CF-70C13D65AD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67AA-DBBF-4C58-A9E8-4F647F4E2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08A6-7373-4161-A28C-6883963E05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0829-A3DF-4DC9-83D1-A315A48C43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7D7F-575D-4BC4-8510-E462ED214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9D9-9EFC-4467-9D0C-647D4B523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B33B-481F-4363-B59F-EF6CE231A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D6AF-1D0B-4980-9E3A-9D5C9DCBC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DC33-0FC5-47B0-982A-29FF70694BD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Forte"/>
              </a:rPr>
              <a:t>Mi vacaciones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Madrid, S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990720" y="76104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Dia u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2895480"/>
            <a:ext cx="746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rte"/>
              </a:rPr>
              <a:t>Hola Jesús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rte"/>
              </a:rPr>
              <a:t>Llegué en la hotel es muy grande y bonita. Hoy a veces lleve y a veces nubes entonces fui el museo del prado es muy interisante y bonitas. No fui al a playa pero yo deseo ayer.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5" name="" descr="The Prado Museum in Madrid, Spain"/>
          <p:cNvPicPr/>
          <p:nvPr/>
        </p:nvPicPr>
        <p:blipFill>
          <a:blip r:embed="rId1"/>
          <a:stretch/>
        </p:blipFill>
        <p:spPr>
          <a:xfrm rot="1782600">
            <a:off x="6248160" y="5335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 rot="20103000">
            <a:off x="152280" y="38052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 d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1066320" y="2286000"/>
            <a:ext cx="7239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l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y fui al a playa es muy diversión. Yo tomar el sol y nado en la mar y bueco tambien. No praticar el surfing. llevé el traje de baño, sandalias y un camis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io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 rot="20341800">
            <a:off x="-152280" y="228600"/>
            <a:ext cx="3047760" cy="210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T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¿Cómo está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 soy muy bien. Hoy fui excursionism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Hiking) es mu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lajante, vi mucho aves bonitas y colorido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pués fui un restaurante es muy bien yo había pa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 rot="1955400">
            <a:off x="6324480" y="53316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 quatr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o es tu seman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 fui vi a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uegos artificiales es muy spectaulares pero a principios de yo dormía en es muy consada de ayer tambien yo compro un regalo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f6f8"/>
                </a:solidFill>
                <a:latin typeface="Tahoma"/>
              </a:rPr>
              <a:t>último día</a:t>
            </a: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l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 mi último día es muy triste acabo de llegar en el aeropuerto a punto de subir el avion mi vacationes es muy interisante 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versió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ios madri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 rot="19970400">
            <a:off x="533160" y="685440"/>
            <a:ext cx="281916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5:24Z</dcterms:created>
  <dc:creator>intinarellijar</dc:creator>
  <dc:description/>
  <dc:language>en-US</dc:language>
  <cp:lastModifiedBy>Jared Intinarelli</cp:lastModifiedBy>
  <dcterms:modified xsi:type="dcterms:W3CDTF">2011-12-01T22:04:54Z</dcterms:modified>
  <cp:revision>6</cp:revision>
  <dc:subject/>
  <dc:title>Mi vacaciones </dc:title>
</cp:coreProperties>
</file>